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8D2-03FF-459A-9274-C9DF43E3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78B-011D-4758-908E-54E4462F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4F9-C34E-421D-8133-5604A0B9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13D-4BAD-43EA-A7F5-A8DB2AF3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C83-5643-425A-BB70-FB1A4642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AB6-38F8-481B-A0C4-D7F62CF8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63FB-FA5D-4F70-96EC-0706137D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635-5222-4CFA-A270-CE69569E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91F2-ED58-4E1B-B7ED-AB80E83F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C908-FC50-4530-A9E7-CB10D805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F3D-93A2-484B-8B89-D810CF64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CE64-D2AB-44F1-861F-E4541B1E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3D1F-4517-40D1-BB87-27E38B5A8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54080" y="1484280"/>
            <a:ext cx="8739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32400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ون من أهل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حبه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صره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3930480" y="981000"/>
            <a:ext cx="4889520" cy="52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4"/>
          <a:stretch/>
        </p:blipFill>
        <p:spPr>
          <a:xfrm>
            <a:off x="2720880" y="3125880"/>
            <a:ext cx="610884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3132000" y="4653000"/>
            <a:ext cx="5829480" cy="57132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324000" y="3789360"/>
            <a:ext cx="856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به تبتعد عن الإفراط والتفر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324000" y="162864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دعاء                      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حبة الطيب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افظة على الفرائض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طلب العلم الشرع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248"/>
          <a:stretch/>
        </p:blipFill>
        <p:spPr>
          <a:xfrm>
            <a:off x="233280" y="1773360"/>
            <a:ext cx="867744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771640" y="4653000"/>
            <a:ext cx="3848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07920"/>
            <a:ext cx="8928000" cy="583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250920" y="1925640"/>
            <a:ext cx="8604000" cy="4672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250920" y="915840"/>
            <a:ext cx="8713800" cy="8575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منهم مؤمن به ومنهم كافر ب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3657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ر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373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ميل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950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يب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6948360" y="5440320"/>
            <a:ext cx="1808280" cy="509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رك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هذه الآيات جاءت في سياق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سلية النبي </a:t>
            </a:r>
            <a:r>
              <a:rPr b="1" lang="en-US" sz="19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خفيف عن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إن هذه الآيات جاءت في سياق تسلي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 والتخفيف عن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حود قومه لما جاء به من الح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أن ل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سوة بمن سلف 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نبياء قبله فقد أوذوا وكذبوا كما فعل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الله تعالى يمهل للظالمين والمكذبين فلا يعاجلهم بالعذاب في الدني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علهم يرجعون ويتوب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مي لا يتخلف أب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جازى المحسن بإحسانه والمسيء بإساء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قامة على دين الله تعالى عقيدة وعبادة وحكماً وأدب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لو في الدين وتجاوز ما حد الله تعالى في شرع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ل إلى المشركين ومداهنت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والصبر عليها في أوقاته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رات الحس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كفر صغائر الذنو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388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كفير الكبائ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توبة إلى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36520" y="981000"/>
            <a:ext cx="865656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36520" y="1967040"/>
          <a:ext cx="8583480" cy="1893600"/>
        </p:xfrm>
        <a:graphic>
          <a:graphicData uri="http://schemas.openxmlformats.org/drawingml/2006/table">
            <a:tbl>
              <a:tblPr/>
              <a:tblGrid>
                <a:gridCol w="4291200"/>
                <a:gridCol w="4292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واه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أوام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5940360" y="2355840"/>
            <a:ext cx="2857680" cy="425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2916360" y="2346480"/>
            <a:ext cx="1511280" cy="492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452520" y="2924280"/>
            <a:ext cx="3975120" cy="40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4643280" y="2851200"/>
            <a:ext cx="4105440" cy="46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8"/>
          <a:stretch/>
        </p:blipFill>
        <p:spPr>
          <a:xfrm>
            <a:off x="7591320" y="3384720"/>
            <a:ext cx="11304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17002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ليل :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3"/>
          <a:stretch/>
        </p:blipFill>
        <p:spPr>
          <a:xfrm>
            <a:off x="138240" y="907920"/>
            <a:ext cx="8748720" cy="75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4"/>
          <a:stretch/>
        </p:blipFill>
        <p:spPr>
          <a:xfrm>
            <a:off x="2284560" y="2421000"/>
            <a:ext cx="6602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9T07:35:47Z</dcterms:modified>
  <cp:revision>1999</cp:revision>
  <dc:subject/>
  <dc:title>عرض تقديمي في PowerPoint</dc:title>
</cp:coreProperties>
</file>